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57E6-CF9E-404F-8DFF-D89108541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2536-0786-4CCE-879A-BF2AA571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B5AA-2EAB-42E4-9B30-8EC5A39F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AEAE-3014-421D-BC6C-3D170F2A2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60C4-51EC-4D93-9D40-8C654852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C227-335E-423B-BBB4-64130F27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9AB0-825B-4EE0-A7C2-5AFAEE0D1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1F8B-2734-4877-A67C-D85682E3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CA93-DFFB-4ED0-ABFC-27B3F95A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15F7-2046-4900-8473-A8A7F275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0521-745F-44CC-8FB3-DE73DD09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E345-338A-4153-BB2D-15C31010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2736-28FB-499F-B061-DEB94C9AA2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../../Protege/html%20files/Analysis%20and%20Modeling.html" TargetMode="External"/><Relationship Id="rId2" Type="http://schemas.openxmlformats.org/officeDocument/2006/relationships/hyperlink" Target="file:///../../../Protege/html%20files/EDA.html" TargetMode="External"/><Relationship Id="rId3" Type="http://schemas.openxmlformats.org/officeDocument/2006/relationships/hyperlink" Target="file:///../../../Protege/html%20files/Feature%20Analysis.html" TargetMode="External"/><Relationship Id="rId4" Type="http://schemas.openxmlformats.org/officeDocument/2006/relationships/hyperlink" Target="file:///../../../Protege/html%20files/Genomic%20&amp;%20Phenotypic%20%20Data%20Analysis.html" TargetMode="External"/><Relationship Id="rId5" Type="http://schemas.openxmlformats.org/officeDocument/2006/relationships/hyperlink" Target="file:///../../../Protege/html%20files/Image%20Processing.html" TargetMode="External"/><Relationship Id="rId6" Type="http://schemas.openxmlformats.org/officeDocument/2006/relationships/hyperlink" Target="file:///../../../Protege/html%20files/Image%20Processing.html#direct_instances" TargetMode="External"/><Relationship Id="rId7" Type="http://schemas.openxmlformats.org/officeDocument/2006/relationships/hyperlink" Target="file:///../../../Protege/html%20files/Network%20characterization.html" TargetMode="External"/><Relationship Id="rId8" Type="http://schemas.openxmlformats.org/officeDocument/2006/relationships/hyperlink" Target="file:///../../../Protege/html%20files/Pre-Processing.html" TargetMode="External"/><Relationship Id="rId9" Type="http://schemas.openxmlformats.org/officeDocument/2006/relationships/hyperlink" Target="file:///../../../Protege/html%20files/Regulatory_Signaling%20network%20reconstruction.html" TargetMode="External"/><Relationship Id="rId10" Type="http://schemas.openxmlformats.org/officeDocument/2006/relationships/hyperlink" Target="file:///../../../Protege/html%20files/Sequence%20Annotation.html" TargetMode="External"/><Relationship Id="rId11" Type="http://schemas.openxmlformats.org/officeDocument/2006/relationships/hyperlink" Target="file:///../../../Protege/html%20files/Simulation.html" TargetMode="External"/><Relationship Id="rId12" Type="http://schemas.openxmlformats.org/officeDocument/2006/relationships/hyperlink" Target="file:///../../../Protege/html%20files/Software%20Engineering%20and%20Development%20Tools.html" TargetMode="External"/><Relationship Id="rId13" Type="http://schemas.openxmlformats.org/officeDocument/2006/relationships/hyperlink" Target="file:///../../../Protege/html%20files/Statistical%20Analysis.html" TargetMode="External"/><Relationship Id="rId14" Type="http://schemas.openxmlformats.org/officeDocument/2006/relationships/hyperlink" Target="file:///../../../Protege/html%20files/Structure-based%20protein%20classification.html" TargetMode="External"/><Relationship Id="rId15" Type="http://schemas.openxmlformats.org/officeDocument/2006/relationships/hyperlink" Target="file:///../../../Protege/html%20files/Toolkits.html" TargetMode="External"/><Relationship Id="rId16" Type="http://schemas.openxmlformats.org/officeDocument/2006/relationships/hyperlink" Target="file:///../../../Protege/html%20files/Toolkits.html#direct_instances" TargetMode="External"/><Relationship Id="rId17" Type="http://schemas.openxmlformats.org/officeDocument/2006/relationships/hyperlink" Target="file:///../../../Protege/html%20files/User%20and%20developer%20documentation.html" TargetMode="External"/><Relationship Id="rId18" Type="http://schemas.openxmlformats.org/officeDocument/2006/relationships/hyperlink" Target="file:///../../../Protege/html%20files/Visualization.html" TargetMode="External"/><Relationship Id="rId1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../../../Protege/html%20files/Analysis%20and%20Modeling.html" TargetMode="External"/><Relationship Id="rId2" Type="http://schemas.openxmlformats.org/officeDocument/2006/relationships/hyperlink" Target="file:///../../../Protege/html%20files/EDA.html" TargetMode="External"/><Relationship Id="rId3" Type="http://schemas.openxmlformats.org/officeDocument/2006/relationships/hyperlink" Target="file:///../../../Protege/html%20files/Feature%20Analysis.html" TargetMode="External"/><Relationship Id="rId4" Type="http://schemas.openxmlformats.org/officeDocument/2006/relationships/hyperlink" Target="file:///../../../Protege/html%20files/Shape%20Analysis.html" TargetMode="External"/><Relationship Id="rId5" Type="http://schemas.openxmlformats.org/officeDocument/2006/relationships/hyperlink" Target="file:///../../../Protege/html%20files/Pattern%20Recognition.html" TargetMode="External"/><Relationship Id="rId6" Type="http://schemas.openxmlformats.org/officeDocument/2006/relationships/hyperlink" Target="file:///../../../Protege/html%20files/Genomic%20&amp;%20Phenotypic%20%20Data%20Analysis.html" TargetMode="External"/><Relationship Id="rId7" Type="http://schemas.openxmlformats.org/officeDocument/2006/relationships/hyperlink" Target="file:///../../../Protege/html%20files/Image%20Processing.html" TargetMode="External"/><Relationship Id="rId8" Type="http://schemas.openxmlformats.org/officeDocument/2006/relationships/hyperlink" Target="file:///../../../Protege/html%20files/Image%20Processing.html#direct_instances" TargetMode="External"/><Relationship Id="rId9" Type="http://schemas.openxmlformats.org/officeDocument/2006/relationships/hyperlink" Target="file:///../../../Protege/html%20files/Atlas%20Generation.html" TargetMode="External"/><Relationship Id="rId10" Type="http://schemas.openxmlformats.org/officeDocument/2006/relationships/hyperlink" Target="file:///../../../Protege/html%20files/Cortical%20Modeling.html" TargetMode="External"/><Relationship Id="rId11" Type="http://schemas.openxmlformats.org/officeDocument/2006/relationships/hyperlink" Target="file:///../../../Protege/html%20files/Registration.html" TargetMode="External"/><Relationship Id="rId12" Type="http://schemas.openxmlformats.org/officeDocument/2006/relationships/hyperlink" Target="file:///../../../Protege/html%20files/Segmentation.html" TargetMode="External"/><Relationship Id="rId13" Type="http://schemas.openxmlformats.org/officeDocument/2006/relationships/hyperlink" Target="file:///../../../Protege/html%20files/Network%20characterization.html" TargetMode="External"/><Relationship Id="rId14" Type="http://schemas.openxmlformats.org/officeDocument/2006/relationships/hyperlink" Target="file:///../../../Protege/html%20files/Pre-Processing.html" TargetMode="External"/><Relationship Id="rId15" Type="http://schemas.openxmlformats.org/officeDocument/2006/relationships/hyperlink" Target="file:///../../../Protege/html%20files/Data%20Transforms.html" TargetMode="External"/><Relationship Id="rId16" Type="http://schemas.openxmlformats.org/officeDocument/2006/relationships/hyperlink" Target="file:///../../../Protege/html%20files/Spectral%20Transforms.html" TargetMode="External"/><Relationship Id="rId17" Type="http://schemas.openxmlformats.org/officeDocument/2006/relationships/hyperlink" Target="file:///../../../Protege/html%20files/Fourier%20Transform.html" TargetMode="External"/><Relationship Id="rId18" Type="http://schemas.openxmlformats.org/officeDocument/2006/relationships/hyperlink" Target="file:///../../../Protege/html%20files/Wavelet%20Transform.html" TargetMode="External"/><Relationship Id="rId19" Type="http://schemas.openxmlformats.org/officeDocument/2006/relationships/hyperlink" Target="file:///../../../Protege/html%20files/Filtering.html" TargetMode="External"/><Relationship Id="rId20" Type="http://schemas.openxmlformats.org/officeDocument/2006/relationships/hyperlink" Target="file:///../../../Protege/html%20files/Skull%20Stripping.html" TargetMode="External"/><Relationship Id="rId21" Type="http://schemas.openxmlformats.org/officeDocument/2006/relationships/hyperlink" Target="file:///../../../Protege/html%20files/Inhomogeneity%20Correction.html" TargetMode="External"/><Relationship Id="rId22" Type="http://schemas.openxmlformats.org/officeDocument/2006/relationships/hyperlink" Target="file:///../../../Protege/html%20files/Inhomogeneity%20Correction.html" TargetMode="External"/><Relationship Id="rId2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../../Protege/html%20files/Analysis%20and%20Modeling.html" TargetMode="External"/><Relationship Id="rId2" Type="http://schemas.openxmlformats.org/officeDocument/2006/relationships/hyperlink" Target="file:///../../../Protege/html%20files/Regulatory_Signaling%20network%20reconstruction.html" TargetMode="External"/><Relationship Id="rId3" Type="http://schemas.openxmlformats.org/officeDocument/2006/relationships/hyperlink" Target="file:///../../../Protege/html%20files/Sequence%20Annotation.html" TargetMode="External"/><Relationship Id="rId4" Type="http://schemas.openxmlformats.org/officeDocument/2006/relationships/hyperlink" Target="file:///../../../Protege/html%20files/Simulation.html" TargetMode="External"/><Relationship Id="rId5" Type="http://schemas.openxmlformats.org/officeDocument/2006/relationships/hyperlink" Target="file:///../../../Protege/html%20files/Software%20Engineering%20and%20Development%20Tools.html" TargetMode="External"/><Relationship Id="rId6" Type="http://schemas.openxmlformats.org/officeDocument/2006/relationships/hyperlink" Target="file:///../../../Protege/html%20files/Cross-LanguageWrapping.html" TargetMode="External"/><Relationship Id="rId7" Type="http://schemas.openxmlformats.org/officeDocument/2006/relationships/hyperlink" Target="file:///../../../Protege/html%20files/Cross-LanguageWrapping.html" TargetMode="External"/><Relationship Id="rId8" Type="http://schemas.openxmlformats.org/officeDocument/2006/relationships/hyperlink" Target="file:///../../../Protege/html%20files/Cross-LanguageWrapping.html#direct_instances" TargetMode="External"/><Relationship Id="rId9" Type="http://schemas.openxmlformats.org/officeDocument/2006/relationships/hyperlink" Target="file:///../../../Protege/html%20files/Cross-Platform%20Tools.html" TargetMode="External"/><Relationship Id="rId10" Type="http://schemas.openxmlformats.org/officeDocument/2006/relationships/hyperlink" Target="file:///../../../Protege/html%20files/Cross-Platform%20Tools.html#direct_instances" TargetMode="External"/><Relationship Id="rId11" Type="http://schemas.openxmlformats.org/officeDocument/2006/relationships/hyperlink" Target="file:///../../../Protege/html%20files/Integration.html" TargetMode="External"/><Relationship Id="rId12" Type="http://schemas.openxmlformats.org/officeDocument/2006/relationships/hyperlink" Target="file:///../../../Protege/html%20files/Graphical%20e.g.,%20HIVE%20Pipeline.html" TargetMode="External"/><Relationship Id="rId13" Type="http://schemas.openxmlformats.org/officeDocument/2006/relationships/hyperlink" Target="file:///../../../Protege/html%20files/Grid%20Computing%20Resources.html" TargetMode="External"/><Relationship Id="rId14" Type="http://schemas.openxmlformats.org/officeDocument/2006/relationships/hyperlink" Target="file:///../../../Protege/html%20files/Mappers%20e.g.,%20BrainGraph%20BrainMapper.html" TargetMode="External"/><Relationship Id="rId15" Type="http://schemas.openxmlformats.org/officeDocument/2006/relationships/hyperlink" Target="file:///../../../Protege/html%20files/Mappers%20e.g.,%20BrainGraph%20BrainMapper.html" TargetMode="External"/><Relationship Id="rId16" Type="http://schemas.openxmlformats.org/officeDocument/2006/relationships/hyperlink" Target="file:///../../../Protege/html%20files/Mappers%20e.g.,%20BrainGraph%20BrainMapper.html" TargetMode="External"/><Relationship Id="rId17" Type="http://schemas.openxmlformats.org/officeDocument/2006/relationships/hyperlink" Target="file:///../../../Protege/html%20files/Mappers%20e.g.,%20BrainGraph%20BrainMapper.html" TargetMode="External"/><Relationship Id="rId18" Type="http://schemas.openxmlformats.org/officeDocument/2006/relationships/hyperlink" Target="file:///../../../Protege/html%20files/Mappers%20e.g.,%20BrainGraph%20BrainMapper.html" TargetMode="External"/><Relationship Id="rId19" Type="http://schemas.openxmlformats.org/officeDocument/2006/relationships/hyperlink" Target="file:///../../../Protege/html%20files/Portals.html" TargetMode="External"/><Relationship Id="rId20" Type="http://schemas.openxmlformats.org/officeDocument/2006/relationships/hyperlink" Target="file:///../../../Protege/html%20files/Resource%20Integration%20Components.html" TargetMode="External"/><Relationship Id="rId21" Type="http://schemas.openxmlformats.org/officeDocument/2006/relationships/hyperlink" Target="file:///../../../Protege/html%20files/Testing%20Tools.html" TargetMode="External"/><Relationship Id="rId22" Type="http://schemas.openxmlformats.org/officeDocument/2006/relationships/hyperlink" Target="file:///../../../Protege/html%20files/Testing%20Tools.html#direct_instances" TargetMode="External"/><Relationship Id="rId2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../../../Protege/html%20files/Analysis%20and%20Modeling.html" TargetMode="External"/><Relationship Id="rId2" Type="http://schemas.openxmlformats.org/officeDocument/2006/relationships/hyperlink" Target="file:///../../../Protege/html%20files/Statistical%20Analysis.html" TargetMode="External"/><Relationship Id="rId3" Type="http://schemas.openxmlformats.org/officeDocument/2006/relationships/hyperlink" Target="file:///../../../Protege/html%20files/E.g.,%20R.html" TargetMode="External"/><Relationship Id="rId4" Type="http://schemas.openxmlformats.org/officeDocument/2006/relationships/hyperlink" Target="file:///../../../Protege/html%20files/Structure-based%20protein%20classification.html" TargetMode="External"/><Relationship Id="rId5" Type="http://schemas.openxmlformats.org/officeDocument/2006/relationships/hyperlink" Target="file:///../../../Protege/html%20files/Toolkits.html" TargetMode="External"/><Relationship Id="rId6" Type="http://schemas.openxmlformats.org/officeDocument/2006/relationships/hyperlink" Target="file:///../../../Protege/html%20files/Toolkits.html#direct_instances" TargetMode="External"/><Relationship Id="rId7" Type="http://schemas.openxmlformats.org/officeDocument/2006/relationships/hyperlink" Target="file:///../../../Protege/html%20files/User%20and%20developer%20documentation.html" TargetMode="External"/><Relationship Id="rId8" Type="http://schemas.openxmlformats.org/officeDocument/2006/relationships/hyperlink" Target="file:///../../../Protege/html%20files/Visualization.html" TargetMode="External"/><Relationship Id="rId9" Type="http://schemas.openxmlformats.org/officeDocument/2006/relationships/hyperlink" Target="file:///../../../Protege/html%20files/Clinical%20Charts%20e.g.,%20Demographics.html" TargetMode="External"/><Relationship Id="rId10" Type="http://schemas.openxmlformats.org/officeDocument/2006/relationships/hyperlink" Target="file:///../../../Protege/html%20files/Graph%20Viewers.html" TargetMode="External"/><Relationship Id="rId11" Type="http://schemas.openxmlformats.org/officeDocument/2006/relationships/hyperlink" Target="file:///../../../Protege/html%20files/Hyperbolic%20Graphs.html" TargetMode="External"/><Relationship Id="rId12" Type="http://schemas.openxmlformats.org/officeDocument/2006/relationships/hyperlink" Target="file:///../../../Protege/html%20files/Hierarchical%20Trees.html" TargetMode="External"/><Relationship Id="rId13" Type="http://schemas.openxmlformats.org/officeDocument/2006/relationships/hyperlink" Target="file:///../../../Protege/html%20files/Imaging.html" TargetMode="External"/><Relationship Id="rId1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../../../Protege/html%20files/Data%20Management.html" TargetMode="External"/><Relationship Id="rId2" Type="http://schemas.openxmlformats.org/officeDocument/2006/relationships/hyperlink" Target="file:///../../../Protege/html%20files/Data%20Storage.html" TargetMode="External"/><Relationship Id="rId3" Type="http://schemas.openxmlformats.org/officeDocument/2006/relationships/hyperlink" Target="file:///../../../Protege/html%20files/Data%20Transfer.html" TargetMode="External"/><Relationship Id="rId4" Type="http://schemas.openxmlformats.org/officeDocument/2006/relationships/hyperlink" Target="file:///../../../Protege/html%20files/Information%20retrieval,%20traversal%20and%20querying.html" TargetMode="External"/><Relationship Id="rId5" Type="http://schemas.openxmlformats.org/officeDocument/2006/relationships/hyperlink" Target="file:///../../../Protege/html%20files/Ontology%20Development%20and%20Management.html" TargetMode="External"/><Relationship Id="rId6" Type="http://schemas.openxmlformats.org/officeDocument/2006/relationships/hyperlink" Target="file:///../../../Protege/html%20files/Data%20Annotation.html" TargetMode="External"/><Relationship Id="rId7" Type="http://schemas.openxmlformats.org/officeDocument/2006/relationships/hyperlink" Target="file:///../../../Protege/html%20files/Ontology%20Development.html" TargetMode="External"/><Relationship Id="rId8" Type="http://schemas.openxmlformats.org/officeDocument/2006/relationships/hyperlink" Target="file:///../../../Protege/html%20files/Ontology%20Diff%20and%20Alignment.html" TargetMode="External"/><Relationship Id="rId9" Type="http://schemas.openxmlformats.org/officeDocument/2006/relationships/hyperlink" Target="file:///../../../Protege/html%20files/Ontology%20Visualization.html" TargetMode="External"/><Relationship Id="rId10" Type="http://schemas.openxmlformats.org/officeDocument/2006/relationships/hyperlink" Target="file:///../../../Protege/html%20files/Programmatic%20Access.html" TargetMode="External"/><Relationship Id="rId11" Type="http://schemas.openxmlformats.org/officeDocument/2006/relationships/hyperlink" Target="file:///../../../Protege/html%20files/Web%20Access.html" TargetMode="External"/><Relationship Id="rId1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../../Protege/html%20files/Data.html" TargetMode="External"/><Relationship Id="rId2" Type="http://schemas.openxmlformats.org/officeDocument/2006/relationships/hyperlink" Target="file:///../../../Protege/html%20files/Clinical%20Information.html" TargetMode="External"/><Relationship Id="rId3" Type="http://schemas.openxmlformats.org/officeDocument/2006/relationships/hyperlink" Target="file:///../../../Protege/html%20files/Aggregate%20Human%20Data.html" TargetMode="External"/><Relationship Id="rId4" Type="http://schemas.openxmlformats.org/officeDocument/2006/relationships/hyperlink" Target="file:///../../../Protege/html%20files/Individual%20Human%20Data.html" TargetMode="External"/><Relationship Id="rId5" Type="http://schemas.openxmlformats.org/officeDocument/2006/relationships/hyperlink" Target="file:///../../../Protege/html%20files/Nonhuman%20Data.html" TargetMode="External"/><Relationship Id="rId6" Type="http://schemas.openxmlformats.org/officeDocument/2006/relationships/hyperlink" Target="file:///../../../Protege/html%20files/Experimental%20Data.html" TargetMode="External"/><Relationship Id="rId7" Type="http://schemas.openxmlformats.org/officeDocument/2006/relationships/hyperlink" Target="file:///../../../Protege/html%20files/Gene-Phenotype%20Association%20DB.html" TargetMode="External"/><Relationship Id="rId8" Type="http://schemas.openxmlformats.org/officeDocument/2006/relationships/hyperlink" Target="file:///../../../Protege/html%20files/Medical%20Images%20DB.html" TargetMode="External"/><Relationship Id="rId9" Type="http://schemas.openxmlformats.org/officeDocument/2006/relationships/hyperlink" Target="file:///../../../Protege/html%20files/Molecular%20Interaction%20DB.html" TargetMode="External"/><Relationship Id="rId10" Type="http://schemas.openxmlformats.org/officeDocument/2006/relationships/hyperlink" Target="file:///../../../Protege/html%20files/Ontologies.html" TargetMode="External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../../Protege/html%20files/Dissemination.html" TargetMode="External"/><Relationship Id="rId2" Type="http://schemas.openxmlformats.org/officeDocument/2006/relationships/hyperlink" Target="file:///../../../Protege/html%20files/Interactive%20Web-Based%20Tools.html" TargetMode="External"/><Relationship Id="rId3" Type="http://schemas.openxmlformats.org/officeDocument/2006/relationships/hyperlink" Target="file:///../../../Protege/html%20files/Publication.html" TargetMode="External"/><Relationship Id="rId4" Type="http://schemas.openxmlformats.org/officeDocument/2006/relationships/hyperlink" Target="file:///../../../Protege/html%20files/Training%20Courses.html" TargetMode="External"/><Relationship Id="rId5" Type="http://schemas.openxmlformats.org/officeDocument/2006/relationships/hyperlink" Target="file:///../../../Protege/html%20files/Web%20Postings.html" TargetMode="External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../../Protege/html%20files/Analysis%20and%20Modeling.html" TargetMode="External"/><Relationship Id="rId2" Type="http://schemas.openxmlformats.org/officeDocument/2006/relationships/hyperlink" Target="file:///../../../Protege/html%20files/Data%20Management.html" TargetMode="External"/><Relationship Id="rId3" Type="http://schemas.openxmlformats.org/officeDocument/2006/relationships/hyperlink" Target="file:///../../../Protege/html%20files/Ontology%20Development%20and%20Management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Rules for a Tool and Data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rry Sm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768D-B81C-4C7F-854D-C335AD9F10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alysis and Modeling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A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Feature Analysi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Genomic &amp; Phenotypic Data Analysi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Image Processin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 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(2 instance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Network characterizati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re-Processin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Regulatory/Signaling network reconstructi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Sequence Annotati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Simulati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Software Engineering and Development Tool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Statistical Analysi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Structure-based protein classificati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Toolkit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 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(4 instance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User and developer documentati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Visualization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62520" y="1600200"/>
            <a:ext cx="685800" cy="304920"/>
          </a:xfrm>
          <a:prstGeom prst="leftArrow">
            <a:avLst>
              <a:gd name="adj1" fmla="val 50000"/>
              <a:gd name="adj2" fmla="val 562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14B7-030B-4948-9E1C-C3897FC8E3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 and Model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22860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void terms with ‘and’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 ‘or’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 ‘and/or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8B54-C314-4A42-8E74-73324E0FA4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alysis and 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Feature Analy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hape Analys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attern Recogni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Genomic &amp; Phenotypic Data Analy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Image Proces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(2 instance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Atlas Gene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Cortical Mode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Registr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Segment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Network characteriz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re-Process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Data Transfo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Spectral Transfor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Fourier Trans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avelet Trans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Filte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Skull Stripp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Inhomogeneity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 Corr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6C34-7A0E-4720-9ABD-53E39D8C7D2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alysis and 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Regulatory/Signaling network reconstru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Sequence Annot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imu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Software Engineering and Development Too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Cross-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LanguageWrapp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(1 instance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ross-Platform To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(2 instance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Integr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Graphical e.g., HIVE Pipe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Grid Computing Resour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Mappers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 e.g.,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BrainGraph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BrainMap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Porta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Resource Integration Compon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Testing To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(2 instance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3733920"/>
            <a:ext cx="685800" cy="304560"/>
          </a:xfrm>
          <a:prstGeom prst="leftArrow">
            <a:avLst>
              <a:gd name="adj1" fmla="val 50000"/>
              <a:gd name="adj2" fmla="val 562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2743200"/>
            <a:ext cx="685800" cy="304920"/>
          </a:xfrm>
          <a:prstGeom prst="leftArrow">
            <a:avLst>
              <a:gd name="adj1" fmla="val 50000"/>
              <a:gd name="adj2" fmla="val 562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0202-FA22-4340-8257-0AEA3B235C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ysis and 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gration is_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ftware Engineering and Development To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27C6-F83F-4579-A6AC-94DD6EDDA2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alysis and 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tatistical Analysi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.g., 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tructure-based protein classificatio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Toolkit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  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(4 instance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User and developer documentatio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Visualizatio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linical Charts e.g., Demographic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Graph Viewer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yperbolic Graph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ierarchical Tree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Imaging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-Sectional View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ifold Viewers 2D, 3D, 4D, 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9DEF-EB91-4C33-8CAA-1578AED300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ta Managemen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ata Stor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Data Transfe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Information retrieval, traversal and query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Ontology Development and Managemen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Data Annot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Ontology Developmen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Ontology Diff and Alignmen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Ontology Visualization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Programmatic Acces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eb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1447920"/>
            <a:ext cx="685800" cy="304560"/>
          </a:xfrm>
          <a:prstGeom prst="leftArrow">
            <a:avLst>
              <a:gd name="adj1" fmla="val 50000"/>
              <a:gd name="adj2" fmla="val 562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86400" y="762120"/>
            <a:ext cx="685800" cy="304560"/>
          </a:xfrm>
          <a:prstGeom prst="leftArrow">
            <a:avLst>
              <a:gd name="adj1" fmla="val 50000"/>
              <a:gd name="adj2" fmla="val 562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3757-DF09-4795-95CA-8AFB5C8A260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on’t be afraid to write down what seems triv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data management is_a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data management tool is_a 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CF54-4DFC-49C0-A05E-AEB7CE65F5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ensu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SH) (?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H Descripto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 Medicus Descript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Anthropology, Education, Sociology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Social Phenomena (MeSH Category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Social Scien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System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Soci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Socialis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tical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Socialis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hrop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Socialis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H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922F-7346-4C95-A1EE-EC3FC6EE62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is_a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ensu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O-R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is_a 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Def every instanc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n instance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real-world examples, e.g. actual software tools, actual bodies of data,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818B-95C0-44B2-8D3A-08370001B1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kinds of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instance, instance&gt; Mary’s hear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t_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instance, type&gt; Mary’s hear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ance_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type, type&gt;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uman heart part_of hu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4574-62BE-4B34-9772-8B8F70724D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nical Informatio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ggregate Human Dat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Individual Human Dat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Nonhuman Data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Experimental Data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Gene-Phenotype Association DB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Medical Images DB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Molecular Interaction DB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Ontologie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5562720"/>
            <a:ext cx="685800" cy="304560"/>
          </a:xfrm>
          <a:prstGeom prst="leftArrow">
            <a:avLst>
              <a:gd name="adj1" fmla="val 50000"/>
              <a:gd name="adj2" fmla="val 562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57800" y="762120"/>
            <a:ext cx="685800" cy="304560"/>
          </a:xfrm>
          <a:prstGeom prst="leftArrow">
            <a:avLst>
              <a:gd name="adj1" fmla="val 50000"/>
              <a:gd name="adj2" fmla="val 562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1947-E2C6-42DF-8AA7-C8C5066985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les on te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s should be in the sing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ntologies is_a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F6FA-2522-44DE-A99B-3960499076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isse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Interactive Web-Based Tool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ublicatio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Training Course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eb Posting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ublication is_a disse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ractive web-based tools is_a disse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2362320"/>
            <a:ext cx="685800" cy="304560"/>
          </a:xfrm>
          <a:prstGeom prst="leftArrow">
            <a:avLst>
              <a:gd name="adj1" fmla="val 50000"/>
              <a:gd name="adj2" fmla="val 562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400800" y="762120"/>
            <a:ext cx="685800" cy="304560"/>
          </a:xfrm>
          <a:prstGeom prst="leftArrow">
            <a:avLst>
              <a:gd name="adj1" fmla="val 50000"/>
              <a:gd name="adj2" fmla="val 5629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635B-9002-4DDC-9B99-3647C71B75F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sem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s should be count no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ractive web-based tools is_a disse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A213-A861-410D-AAC8-7DD0F1774DD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alysis and Modelin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Data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Ontology Development an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7F32-E206-40F2-ADDF-6BD0D232F1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5T01:06:30Z</dcterms:created>
  <dc:creator>phismith</dc:creator>
  <dc:description/>
  <dc:language>en-US</dc:language>
  <cp:lastModifiedBy>phismith</cp:lastModifiedBy>
  <dcterms:modified xsi:type="dcterms:W3CDTF">2006-03-25T21:39:23Z</dcterms:modified>
  <cp:revision>6</cp:revision>
  <dc:subject/>
  <dc:title>NCBC_SDIWG_Data-n-Software_Ontology</dc:title>
</cp:coreProperties>
</file>